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wmf" ContentType="image/x-wmf"/>
  <Override PartName="/ppt/media/image7.wmf" ContentType="image/x-wmf"/>
  <Override PartName="/ppt/media/image13.png" ContentType="image/png"/>
  <Override PartName="/ppt/media/image8.wmf" ContentType="image/x-wmf"/>
  <Override PartName="/ppt/media/image9.png" ContentType="image/png"/>
  <Override PartName="/ppt/media/image11.png" ContentType="image/png"/>
  <Override PartName="/ppt/media/image12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D986-AA0B-4C6D-BFE2-25BD6BC45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9115-A7D7-486F-AEE9-54482945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C3178-1D7D-427D-83ED-3FE446250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4828-A10A-4594-AE8C-FF5CAB2D5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130C7-7D15-4D62-8C49-3B4A2EC42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690A1-CB49-46DF-83AA-9372BDBC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9D553-7DAD-4BD9-8DB7-3B4456A19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8EE7B-F04B-4ACB-9EE7-B86C88B4E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B39E7-D7EA-4DA0-B0F2-442DE00EC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F4847-39EC-45F2-B3C0-E2BCAD69E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62613-20BB-4378-B281-7B0E1A21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82F6-A2F9-4E4C-BA63-E8A7E4E18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DF82-975A-4E37-9A06-F45A6DE64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257C-4C14-4A63-899D-A9AB4748F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E551-46AF-46ED-8705-3B697AFD9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95B6-64BC-460D-9CD5-D1A20EB33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3E3AF-662F-41D9-9563-1122B5AD1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5CA572-10EA-4BB7-9F09-4BC5A398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CDBD7A-05EF-4E55-9A78-FEE3983D9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34B08D-B05B-4705-8483-FAE43A4A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2F2E81-E1EB-4576-874F-ACCDAE8B7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63E88D-18CE-4447-8D24-63522A581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7A84-07F9-47ED-98A4-9DCC6DC2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2FDB7-6024-4FCF-9611-71163FB74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018EAC-4CF9-4577-BB0D-164D19669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68B326-AABF-4443-A803-7C6934B04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2FF01-16E9-4819-B266-75E386967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00EBEB-F348-41FF-8203-93F51E0DD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0EDC1-FF23-4AEC-BE65-87FB890BA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2BFCF-8610-440A-975A-3426F1D39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111188-8440-419A-A1B6-5D68C66C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D1594-2AF5-4D33-8477-5A78E67E0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6EB3C5-3A89-479F-A44E-584E2F25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B9B2-B242-4D55-BE11-D29FCBC23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C16DA6-22E9-4884-95CA-CF6E58E1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27FDB-A8DB-450D-9444-85DC2D4AE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64EE9-C0F0-4555-8553-55F98911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66FA32-614E-485B-AB60-7C1716E37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0CC083-DE25-4F1B-8368-609D41D4B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2C354D-A213-42E3-A6E1-54B2CC96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FE84DB-FB4F-4494-8397-F0B40F978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759BC0-CF5E-46D1-92E5-D37F49BED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45C99-3FA2-44A6-A612-67FF97E5B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95EF-E102-4E3E-BE75-F97021321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D6AD-5813-46CF-A166-FBFB2A42F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9078-DBDB-4DE3-A482-EAAC220F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0686-0098-471E-AC69-76C72DB8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4E381-FC69-4170-B352-EBF922EA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5767C-6D2D-4DAE-BD39-1DBABE0C7C7A}" type="slidenum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7DD9-7538-4010-AC87-D1C36B09C0E3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eece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eece1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3e1d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90053-2DBD-4955-86DC-B6F119036161}" type="slidenum">
              <a:rPr b="0" lang="en-US" sz="1200" spc="-1" strike="noStrike">
                <a:solidFill>
                  <a:srgbClr val="e3e1d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95302e">
                  <a:alpha val="45098"/>
                </a:srgbClr>
              </a:gs>
              <a:gs pos="100000">
                <a:srgbClr val="95c237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749434">
                  <a:alpha val="45098"/>
                </a:srgbClr>
              </a:gs>
              <a:gs pos="100000">
                <a:srgbClr val="bd322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4f81b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c0504d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9bbb5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8064a2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1d457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EAC9-F6CE-47F2-A82A-61C59DCED767}" type="slidenum">
              <a:rPr b="0" lang="en-US" sz="1200" spc="-1" strike="noStrike">
                <a:solidFill>
                  <a:srgbClr val="1d457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C:\Program Files\Microsoft Office\Clipart\standard\stddir1\bd06113_.wmf"/>
          <p:cNvPicPr/>
          <p:nvPr/>
        </p:nvPicPr>
        <p:blipFill>
          <a:blip r:embed="rId1"/>
          <a:stretch/>
        </p:blipFill>
        <p:spPr>
          <a:xfrm>
            <a:off x="380880" y="3808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96" name="WordArt 5"/>
          <p:cNvSpPr txBox="1"/>
          <p:nvPr/>
        </p:nvSpPr>
        <p:spPr>
          <a:xfrm>
            <a:off x="1219320" y="457200"/>
            <a:ext cx="10285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empus Sans ITC"/>
              </a:rPr>
              <a:t>Become a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empus Sans ITC"/>
              <a:ea typeface="Tempus Sans ITC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empus Sans ITC"/>
              </a:rPr>
              <a:t>Millionaire!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empus Sans ITC"/>
              <a:ea typeface="Tempus Sans ITC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2209680" y="1523880"/>
            <a:ext cx="47246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Woodland Hill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empus Sans ITC"/>
              </a:rPr>
              <a:t>Millionaire Book Club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7" descr="C:\Program Files\Microsoft Office\Clipart\standard\stddir2\bs01326_.wmf"/>
          <p:cNvPicPr/>
          <p:nvPr/>
        </p:nvPicPr>
        <p:blipFill>
          <a:blip r:embed="rId2"/>
          <a:stretch/>
        </p:blipFill>
        <p:spPr>
          <a:xfrm>
            <a:off x="7010280" y="457200"/>
            <a:ext cx="1371600" cy="13590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8" descr="C:\Program Files\Microsoft Office\Clipart\standard\stddir1\bd06135_.wmf"/>
          <p:cNvPicPr/>
          <p:nvPr/>
        </p:nvPicPr>
        <p:blipFill>
          <a:blip r:embed="rId3"/>
          <a:stretch/>
        </p:blipFill>
        <p:spPr>
          <a:xfrm>
            <a:off x="6934320" y="4724280"/>
            <a:ext cx="1347840" cy="15242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C:\Program Files\Microsoft Office\Clipart\WebArt\wb01513_.gif"/>
          <p:cNvPicPr/>
          <p:nvPr/>
        </p:nvPicPr>
        <p:blipFill>
          <a:blip r:embed="rId4"/>
          <a:stretch/>
        </p:blipFill>
        <p:spPr>
          <a:xfrm>
            <a:off x="685800" y="4952880"/>
            <a:ext cx="7984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0">
                                      <p:cBhvr>
                                        <p:cTn id="6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Picture 4" descr=""/>
          <p:cNvPicPr/>
          <p:nvPr/>
        </p:nvPicPr>
        <p:blipFill>
          <a:blip r:embed="rId1"/>
          <a:stretch/>
        </p:blipFill>
        <p:spPr>
          <a:xfrm>
            <a:off x="2133720" y="2757600"/>
            <a:ext cx="4724280" cy="2805120"/>
          </a:xfrm>
          <a:prstGeom prst="rect">
            <a:avLst/>
          </a:prstGeom>
          <a:ln w="0">
            <a:noFill/>
          </a:ln>
        </p:spPr>
      </p:pic>
      <p:sp>
        <p:nvSpPr>
          <p:cNvPr id="219" name="TextBox 6"/>
          <p:cNvSpPr/>
          <p:nvPr/>
        </p:nvSpPr>
        <p:spPr>
          <a:xfrm>
            <a:off x="457200" y="30492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empus Sans ITC"/>
              </a:rPr>
              <a:t>Good Luck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empus Sans ITC"/>
              </a:rPr>
              <a:t>Future Millionaires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64800000">
                                      <p:cBhvr>
                                        <p:cTn id="12" dur="2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1f497d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Times New Roman"/>
              </a:rPr>
              <a:t>Million Bucks?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Tahoma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e Pennsylvania Department of Education has challenged and Woodland Hills has accepted the challenge to read 1 million words before the end of the school year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Times New Roman"/>
              </a:rPr>
              <a:t>How much is a million?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Tahoma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million seconds is 12 day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Tahoma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Tahoma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Tahoma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 million hours ago was in 1885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Tahoma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1f497d"/>
                </a:solidFill>
                <a:latin typeface="Times New Roman"/>
              </a:rPr>
              <a:t>What can you do with a million dollars?</a:t>
            </a:r>
            <a:endParaRPr b="0" lang="en-US" sz="45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76212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Tahoma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y 307,692 Big Mac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Tahoma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uy 5001 Nintendo DSI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Tahoma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Tahoma"/>
              <a:buChar char="$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7" name="Picture 4" descr=""/>
          <p:cNvPicPr/>
          <p:nvPr/>
        </p:nvPicPr>
        <p:blipFill>
          <a:blip r:embed="rId1"/>
          <a:stretch/>
        </p:blipFill>
        <p:spPr>
          <a:xfrm>
            <a:off x="1371600" y="3505320"/>
            <a:ext cx="3962520" cy="281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Times New Roman"/>
              </a:rPr>
              <a:t>How much is a million?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09" name="Picture 3" descr=""/>
          <p:cNvPicPr/>
          <p:nvPr/>
        </p:nvPicPr>
        <p:blipFill>
          <a:blip r:embed="rId1"/>
          <a:stretch/>
        </p:blipFill>
        <p:spPr>
          <a:xfrm>
            <a:off x="838080" y="2209680"/>
            <a:ext cx="7162920" cy="37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1f497d"/>
                </a:solidFill>
                <a:latin typeface="Calibri"/>
              </a:rPr>
              <a:t>How many words is a million?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Around 4,000 pag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25,000 minutes of reading - first gra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0,000 minutes of reading –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–6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grad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17  Full adult Book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Times New Roman"/>
              </a:rPr>
              <a:t>The challenge: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ub Members in grades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r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-6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th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 read a collective 4,000  “pages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ub Members in grades K – 2</a:t>
            </a:r>
            <a:r>
              <a:rPr b="0" lang="en-US" sz="2600" spc="-1" strike="noStrike" baseline="30000">
                <a:solidFill>
                  <a:srgbClr val="000000"/>
                </a:solidFill>
                <a:latin typeface="Constantia"/>
              </a:rPr>
              <a:t>nd</a:t>
            </a: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 read a collective  25,000 minut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Calibri"/>
              </a:rPr>
              <a:t>Accounting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15" name="Content Placeholder 3" descr="reading log 2.jpg"/>
          <p:cNvPicPr/>
          <p:nvPr/>
        </p:nvPicPr>
        <p:blipFill>
          <a:blip r:embed="rId1"/>
          <a:stretch/>
        </p:blipFill>
        <p:spPr>
          <a:xfrm>
            <a:off x="1731960" y="1935000"/>
            <a:ext cx="568008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1f497d"/>
                </a:solidFill>
                <a:latin typeface="Tempus Sans ITC"/>
              </a:rPr>
              <a:t>Midterm</a:t>
            </a:r>
            <a:endParaRPr b="0" lang="en-US" sz="5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Book Exchang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Light Refreshment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tudent Celebratio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9bbb5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Running Tot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9T17:57:51Z</dcterms:created>
  <dc:creator>CERRKA</dc:creator>
  <dc:description/>
  <dc:language>en-US</dc:language>
  <cp:lastModifiedBy>Teacher</cp:lastModifiedBy>
  <dcterms:modified xsi:type="dcterms:W3CDTF">2010-03-21T22:37:11Z</dcterms:modified>
  <cp:revision>6</cp:revision>
  <dc:subject/>
  <dc:title>PowerPoint Presentation</dc:title>
</cp:coreProperties>
</file>